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CBF-517C-4C2A-871A-00E004E8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406-EDC7-48DA-830F-6119A99D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FCA-B44A-427E-BA4C-23C3FAAC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61F-1CBF-45DF-B0FD-20BD8E06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0E1-2317-45D0-9751-3676E890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CD3-E81E-4256-8F35-98FB8B6B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C8D-F1D5-4ACD-BE1D-28651CEA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FD1-7BE2-42E0-B0B0-87B1D379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96C-A5F7-4406-9F92-12EE3CB2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327-3A94-4F75-BC73-96735A28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7D0-9E5B-459E-ACF7-8267AC74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055-1AF1-47F6-82B2-D70A7A52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B0EE-8E90-438D-A1B8-095E1658D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retch.cc/album/show.php?i=jao8825252&amp;b=1479&amp;f=1165109146&amp;p=260" TargetMode="External"/><Relationship Id="rId3" Type="http://schemas.openxmlformats.org/officeDocument/2006/relationships/image" Target="../media/image2.gif"/><Relationship Id="rId4" Type="http://schemas.openxmlformats.org/officeDocument/2006/relationships/hyperlink" Target="http://www.wretch.cc/album/show.php?i=jao8825252&amp;b=1479&amp;f=1165109146&amp;p=260" TargetMode="External"/><Relationship Id="rId5" Type="http://schemas.openxmlformats.org/officeDocument/2006/relationships/image" Target="../media/image2.gif"/><Relationship Id="rId6" Type="http://schemas.openxmlformats.org/officeDocument/2006/relationships/hyperlink" Target="http://www.wretch.cc/album/show.php?i=jao8825252&amp;b=1271&amp;f=1461527352&amp;p=22" TargetMode="External"/><Relationship Id="rId7" Type="http://schemas.openxmlformats.org/officeDocument/2006/relationships/image" Target="../media/image3.gif"/><Relationship Id="rId8" Type="http://schemas.openxmlformats.org/officeDocument/2006/relationships/hyperlink" Target="http://www.wretch.cc/album/show.php?i=jao8825252&amp;b=1271&amp;f=1461527352&amp;p=22" TargetMode="External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843200"/>
            <a:ext cx="4114800" cy="5205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ổ : TOÁN –LÝ -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3657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Tiết 12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ài 1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320" y="4800600"/>
            <a:ext cx="6324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KHỐI LƯỢNG RIÊNG-TRỌNG LƯỢNG RIÊNG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7120" y="1981080"/>
            <a:ext cx="2514600" cy="4267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下一張(熱鍵:c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2438280"/>
            <a:ext cx="99072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下一張(熱鍵:c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2438280"/>
            <a:ext cx="914400" cy="2362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下一張(熱鍵:c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76320"/>
            <a:ext cx="819000" cy="92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下一張(熱鍵:c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25000" y="0"/>
            <a:ext cx="819000" cy="92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2286000" y="0"/>
            <a:ext cx="426708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2743200" y="2629080"/>
            <a:ext cx="1676520" cy="102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CD1-9DC8-4C55-81A8-418E430CCBA2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/10/2009</a:t>
            </a: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1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guyễn Mế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001-DFA3-4164-82C6-CD54F3076F0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0/2009</a:t>
            </a: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590920" y="304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Ghi nh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219320"/>
            <a:ext cx="838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83808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Khối lượng riêng của một chất được xác định bằng khối lượng của một đơn vị thể tích ( 1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 chất đó: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 = m/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32767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rọng lượng riêng của một chất được xác định bằng trọng lượng của một đơn vị thể tích ( 1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 chất đó: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 = P/V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2543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Đơn vị khối lượng riêng là kilogam trên mét khối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 kg/m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46926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ông thức tính trọng lượng riêng theo khối lượng riêng :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 = 10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guyễn Mế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A1E-70C5-450C-9B2C-BF2825D7D2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0/2009</a:t>
            </a:r>
          </a:p>
        </p:txBody>
      </p:sp>
    </p:spTree>
  </p:cSld>
  <p:transition>
    <p:wheel spokes="8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-76320"/>
            <a:ext cx="4876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Hướng dẫn về nhà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Học thuộc phần ghi nhớ ở trang 38 SG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Làm bài tập: 11.1 ; 11.2 và 11.4 trang 17 S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503280"/>
            <a:ext cx="48765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1. Bài vừa họ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2209680"/>
            <a:ext cx="4876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2. Bài sắp họ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31240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3300"/>
                </a:solidFill>
                <a:uFillTx/>
                <a:latin typeface="Times New Roman"/>
              </a:rPr>
              <a:t>Tiết 12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: </a:t>
            </a:r>
            <a:r>
              <a:rPr b="1" i="1" lang="en-US" sz="2000" spc="-1" strike="noStrike">
                <a:solidFill>
                  <a:srgbClr val="993300"/>
                </a:solidFill>
                <a:latin typeface="Times New Roman"/>
              </a:rPr>
              <a:t>THỰC HÀNH : XÁC</a:t>
            </a: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993300"/>
                </a:solidFill>
                <a:latin typeface="Times New Roman"/>
              </a:rPr>
              <a:t>ĐỊNH  KHỐI LƯỢNG RIÊNG CỦA SỎ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Kẻ bảng mẫu báo cáo ở trang 40 SG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Đọc trước phần thực hàn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guyễn Mế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DCF-9F4A-40CC-90E6-088FEC1C53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0/2009</a:t>
            </a:r>
          </a:p>
        </p:txBody>
      </p:sp>
    </p:spTree>
  </p:cSld>
  <p:transition>
    <p:wheel spokes="8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6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0" y="228600"/>
            <a:ext cx="472428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VNI-Times"/>
              </a:rPr>
              <a:t>I.KIEÅM TRA BAØI CU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NI-Times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VNI-Times"/>
              </a:rPr>
              <a:t>Haõy vieát heä thöùc giöõa troïng löôïng vaø khoái löôïng cuûa cuøng moät vaä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NI-Times"/>
              </a:rPr>
              <a:t>* Moät Hoïc sinh coù khoái löôïng laø 36kg seõ coù troïng löôïng laø bao nhieâu niu tôn?</a:t>
            </a:r>
            <a:r>
              <a:rPr b="1" lang="en-US" sz="3200" spc="-1" strike="noStrike">
                <a:solidFill>
                  <a:srgbClr val="0000ff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VNI-Times"/>
              </a:rPr>
              <a:t>Traû lôø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VNI-Times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VNI-Times"/>
              </a:rPr>
              <a:t>* Heä thöùc : P = 10m, trong ño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NI-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VNI-Times"/>
              </a:rPr>
              <a:t>P: Troïng löôïng ( ñôn vò niu tôn )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VNI-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VNI-Times"/>
              </a:rPr>
              <a:t>m : Khoái löôïng  ( ñôn vò kiloâgam</a:t>
            </a:r>
            <a:r>
              <a:rPr b="1" i="1" lang="en-US" sz="2000" spc="-1" strike="noStrike">
                <a:solidFill>
                  <a:srgbClr val="ff3300"/>
                </a:solidFill>
                <a:latin typeface="VNI-Times"/>
              </a:rPr>
              <a:t>)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Cho bieát:</a:t>
            </a: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Tí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m = 36kg</a:t>
            </a: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VNI-Times"/>
              </a:rPr>
              <a:t>P =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NI-Times"/>
              </a:rPr>
              <a:t>Ta coù heä thöùc:   P =10x 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NI-Times"/>
              </a:rPr>
              <a:t>Thay soá         :   P = 10 x 36 kg = 360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guyễn Mế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3F24-E3E9-4469-8902-E9FED7F5E9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0/2009</a:t>
            </a:r>
          </a:p>
        </p:txBody>
      </p:sp>
    </p:spTree>
  </p:cSld>
  <p:transition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6019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30492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NI-Times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VNI-Times"/>
              </a:rPr>
              <a:t>ÔÛ AÁn Ñoä ,thôøi coå xöa ,ngöôøi ta ñaõ ñuùc ñöôïc moät caùi coät baèng saét nguyeân chaát ,coù khoái löôïng ñeán gaàn möôøi taán . Laøm theá naøo ñeå “caân” ñöôïc chieác coät ño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guyễn Mế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B31-F081-49FF-B821-3D4673FE498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0/2009</a:t>
            </a:r>
          </a:p>
        </p:txBody>
      </p:sp>
    </p:spTree>
  </p:cSld>
  <p:transition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NI-Times"/>
              </a:rPr>
              <a:t>Tieát 12:</a:t>
            </a:r>
            <a:r>
              <a:rPr b="0" lang="en-US" sz="2400" spc="-1" strike="noStrike">
                <a:solidFill>
                  <a:srgbClr val="0000ff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Times"/>
              </a:rPr>
              <a:t>Baøi 11</a:t>
            </a:r>
            <a:r>
              <a:rPr b="1" lang="en-US" sz="3600" spc="-1" strike="noStrike">
                <a:solidFill>
                  <a:srgbClr val="0000ff"/>
                </a:solidFill>
                <a:latin typeface="VNI-Times"/>
              </a:rPr>
              <a:t>.</a:t>
            </a:r>
            <a:r>
              <a:rPr b="0" lang="en-US" sz="3600" spc="-1" strike="noStrike">
                <a:solidFill>
                  <a:srgbClr val="0000ff"/>
                </a:solidFill>
                <a:latin typeface="VNI-Times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VNI-Times"/>
              </a:rPr>
              <a:t>KHOÁI LÖÔÏNG RIEÂNG-     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VNI-Time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VNI-Time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VNI-Times"/>
              </a:rPr>
              <a:t>TROÏNG LÖÔÏNG RIEÂ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* </a:t>
            </a:r>
            <a:r>
              <a:rPr b="1" i="1" lang="en-US" sz="3200" spc="-1" strike="noStrike" u="sng">
                <a:solidFill>
                  <a:srgbClr val="ff66cc"/>
                </a:solidFill>
                <a:uFillTx/>
                <a:latin typeface="VNI-Times"/>
              </a:rPr>
              <a:t>Nhöõng noäi dung chính trong baøi hoïc hoâm n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NI-Times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VNI-Times"/>
              </a:rPr>
              <a:t>Khoái löôïng rieâng. Tính khoái löôïng cuûa caùc vaät theo khoái löôïng rieâ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VNI-Times"/>
              </a:rPr>
              <a:t>Troïng löôïng rieâ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VNI-Times"/>
              </a:rPr>
              <a:t>Xaùc ñònh troïng löôïng rieâng cuûa moät chaá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VNI-Times"/>
              </a:rPr>
              <a:t>Vaän duïng coâng thöùc ñaõ hoïc ñeå giaûi baøi taä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guyễn Mế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A82-EC82-4D97-9469-2F8E690796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0/2009</a:t>
            </a:r>
          </a:p>
        </p:txBody>
      </p:sp>
    </p:spTree>
  </p:cSld>
  <p:transition>
    <p:wheel spokes="8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152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Tiết 12: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Bài 11: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HỐI LƯỢNG RIÊNG-TRỌNG LƯỢNG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533520"/>
            <a:ext cx="0" cy="624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533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I.KHỐI LƯỢNG RIÊNG.TÍNH KHỐI LƯỢNG RIÊNG CỦA CÁC VẬT THEO KHỐI LƯỢNG RIÊ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371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.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Khối lượng riê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21932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76320" y="36504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52388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615636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76320" y="295596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4572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1: Hãy chọn phương án xác định khói lượng của chiếc cột sắt ở Ấn Đ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Cưa chiếc cột Sắt thành nhiều đoạn nhỏ,rồi đem cân từng đoạn m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2895480"/>
            <a:ext cx="4419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Tìm cách đo thể tích của chiếc cột ,xem nó bằng bao nhiêu mét khối ? Biết khối lượng của 1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sắt nguyên chất thì ta sẽ tính được khối lượng của chiếc c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676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5486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ể tích của chiếc cột khoảng 0,9m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6576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59436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dm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ắt nguyên chất có khối lượng 7,8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6858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ắt  có khối lượng 780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21337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Vậy 0,9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ó khối lượng là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243828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Khối lượng chiếc cột sắ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280368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800 kg / 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x 0,9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= 702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838080"/>
            <a:ext cx="4419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Khối lượng của một mét khối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ột chất gọi là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khối lượng riêng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ủa chất đ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Đơn vị khối lượng riêng là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kilôgam trên mét khối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Kí hiệu là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kg / m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1240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2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Bảng Khối lượng riêng của một số chấ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guyễn Mế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6E9-2E1A-4C1B-98F4-B743AE7C4D0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0/2009</a:t>
            </a:r>
          </a:p>
        </p:txBody>
      </p:sp>
    </p:spTree>
  </p:cSld>
  <p:transition>
    <p:wheel spokes="8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87283E-006 L -0.45416 0.17086 E">
                                      <p:cBhvr>
                                        <p:cTn id="20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04920" y="228600"/>
          <a:ext cx="8534160" cy="5464080"/>
        </p:xfrm>
        <a:graphic>
          <a:graphicData uri="http://schemas.openxmlformats.org/drawingml/2006/table">
            <a:tbl>
              <a:tblPr/>
              <a:tblGrid>
                <a:gridCol w="1752480"/>
                <a:gridCol w="2361960"/>
                <a:gridCol w="2057400"/>
                <a:gridCol w="2362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Chaát raé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Khoái löôïng rieângkg/m</a:t>
                      </a:r>
                      <a:r>
                        <a:rPr b="1" i="1" lang="en-US" sz="2800" spc="-1" strike="noStrike" baseline="30000">
                          <a:solidFill>
                            <a:srgbClr val="0000ff"/>
                          </a:solidFill>
                          <a:latin typeface="VNI-Time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Chaát loû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Khoái löôïng rieângkg/m</a:t>
                      </a:r>
                      <a:r>
                        <a:rPr b="1" i="1" lang="en-US" sz="2800" spc="-1" strike="noStrike" baseline="30000">
                          <a:solidFill>
                            <a:srgbClr val="0000ff"/>
                          </a:solidFill>
                          <a:latin typeface="VNI-Time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h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huỷ ngâ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ắ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ướ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hô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t xă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Đ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khoảng) 2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ầu ho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khoảng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ạ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khoảng) 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ầu ă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oảng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ỗ tố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khoảng)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ượu,cồ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oảng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7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guyễn Mế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E1E-772A-408F-92FC-A4FC1189FEE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0/2009</a:t>
            </a: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152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Tiết 12: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Bài 11: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HỐI LƯỢNG RIÊNG-TRỌNG LƯỢNG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533520"/>
            <a:ext cx="0" cy="624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533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I.KHỐI LƯỢNG RIÊNG.TÍNH KHỐI LƯỢNG RIÊNG CỦA CÁC VẬT THEO KHỐI LƯỢNG RIÊ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371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.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Khối lượng riê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21932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6320" y="36504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52388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79132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76320" y="295596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228600" y="356544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08968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7984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6576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1337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Vậy 0,9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ó khối lượng là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43828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Khối lượng chiếc cột sắ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280368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800 kg / 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x 0,9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= 702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1240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2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Bảng Khối lượng riêng của một số chấ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3718080"/>
            <a:ext cx="40388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Khối lượng riêng của Đá là 2600 kg / 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có nghĩa là: 1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Đá có khối lượng là 260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6324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3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Tính khối lượng của một vật theo Khối lượng riê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257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6094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ãy tính khối lượng của một khối Đá. Biết khối Đá có thể tích 0,5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19051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Đá có khối lượng là 2600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23623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,5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Đá có khối lượng là ?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21337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600kg/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x 0,5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= 1300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5943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69800"/>
            <a:ext cx="43434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ãy tìm các chữ trong khung để điền vào các ô của công thức tính khối lượng theo khối lượng riê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3048120"/>
            <a:ext cx="3886200" cy="157212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kh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ối lượng riêng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D(kg/m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Khối lượng 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m ( kg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ể tích 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 ( m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6253200"/>
            <a:ext cx="625680" cy="376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6480" y="6248520"/>
            <a:ext cx="625320" cy="376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3160" y="6248520"/>
            <a:ext cx="625320" cy="376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6248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6248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34400" y="4114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36080" y="3581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65000" y="3048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533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II.T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ỌNG</a:t>
            </a: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 LƯỢNG RIÊ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6504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9528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735120"/>
            <a:ext cx="4724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ọng lượng của mộ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é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khối  của một chất gọi là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rọng lượng riê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ủa chất đ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Đơn vị của trọng lượng riêng là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Niu tơn trên mét khối (N/m</a:t>
            </a:r>
            <a:r>
              <a:rPr b="1" i="1" lang="en-US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guyễn Mế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C77-5433-442B-8D4A-8667EC41A83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0/2009</a:t>
            </a:r>
          </a:p>
        </p:txBody>
      </p:sp>
    </p:spTree>
  </p:cSld>
  <p:transition>
    <p:wheel spokes="8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17919E-006 L -0.49167 0.50382 E">
                                      <p:cBhvr>
                                        <p:cTn id="29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64162E-006 L -0.5559 0.37294 E">
                                      <p:cBhvr>
                                        <p:cTn id="36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56647E-006 L -0.51111 0.46612 E">
                                      <p:cBhvr>
                                        <p:cTn id="36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21965E-006 L -0.28525 0.30636 E">
                                      <p:cBhvr>
                                        <p:cTn id="36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2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8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152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Tiết 12: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Bài 11: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HỐI LƯỢNG RIÊNG-TRỌNG LƯỢNG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33520"/>
            <a:ext cx="0" cy="624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33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I.KHỐI LƯỢNG RIÊNG.TÍNH KHỐI LƯỢNG RIÊNG CỦA CÁC VẬT THEO KHỐI LƯỢNG RIÊ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371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.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Khối lượng riê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21932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6320" y="36504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52388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79132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6320" y="295596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28600" y="356544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508968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7984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676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6576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21337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Vậy 0,9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ó khối lượng là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43828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Khối lượng chiếc cột sắ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280368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800 kg / 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x 0,9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= 702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1240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2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Bảng Khối lượng riêng của một số chấ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718080"/>
            <a:ext cx="40388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Khối lượng riêng của Đá là 2600 kg / 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có nghĩa là: 1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Đá có khối lượng là 260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6324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3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Tính khối lượng của một vật theo Khối lượng riê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5257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62284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600kg/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x 0,5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= 1300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943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6253200"/>
            <a:ext cx="625680" cy="376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46480" y="6248520"/>
            <a:ext cx="625320" cy="376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3160" y="6248520"/>
            <a:ext cx="625320" cy="376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6248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6248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07120" y="6186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0560" y="6110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40440" y="6248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33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II.T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ỌNG</a:t>
            </a: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 LƯỢNG RIÊ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6504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9528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60948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7621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9907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ọn từ thích hợp trong khung để điền vào chỗ trố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23763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876920" y="2209680"/>
          <a:ext cx="6858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209680"/>
                    <a:ext cx="685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334120" y="1752480"/>
          <a:ext cx="484200" cy="16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752480"/>
                    <a:ext cx="48420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5791320" y="1828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  là ( 1 )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23464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  là ( 2 )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28796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  là ( 3 )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3476520"/>
            <a:ext cx="396252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Trọng lượng (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Thể tích  ( m</a:t>
            </a:r>
            <a:r>
              <a:rPr b="1" i="1" lang="en-US" sz="1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Trọng lượng riêng ( N/ m</a:t>
            </a:r>
            <a:r>
              <a:rPr b="1" i="1" lang="en-US" sz="1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9907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( 1 ) : trọng lượng riêng ( N/m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16002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( 3 ) : thể tích (m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295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( 2 ) : trọng lượng  ( 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  = 10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2209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III.XÁC ĐỊNH T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ỌNG</a:t>
            </a: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 LƯỢNG RIÊNG CỦA MỘT CHẤ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1981080"/>
            <a:ext cx="99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29718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ãy tìm cách xác định trọng lượng riêng của chất làm quả câ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257508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2727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358128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ụng cụ gồm c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394668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- Một quả cân 200g mà ta cần đo trọng lượng riêng của chất làm nó .Có một sợi chỉ buộc vào quả câ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4937040"/>
            <a:ext cx="51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- Một bình chia độ có GHĐ 250c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,miệng rộng để có thể cho lọt quả cân vào trong bình. Bình chứa khoảng 100c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nướ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60040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- Một lực kế có GHĐ ít nhất 2,5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295596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. Dùng lực kế xác định trọng lượng của quả cân 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505320"/>
            <a:ext cx="44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- Dùng bình chia độ xác định thể tích quả câ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26708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- Áp dụng: d = P/V ta tính được trọng lượng riêng của quả câ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guyễn Mế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335-56DF-4E80-9464-CA6DC03C5EA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0/2009</a:t>
            </a:r>
          </a:p>
        </p:txBody>
      </p:sp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4624E-006 L 0.16267 -0.36555 E">
                                      <p:cBhvr>
                                        <p:cTn id="449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83237E-006 L 0.23003 -0.17873 E">
                                      <p:cBhvr>
                                        <p:cTn id="453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56069E-006 L 0.23698 -0.15006 E">
                                      <p:cBhvr>
                                        <p:cTn id="457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4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7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280" y="152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Tiết 12: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Bài 11: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HỐI LƯỢNG RIÊNG-TRỌNG LƯỢNG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533520"/>
            <a:ext cx="0" cy="624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533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I.KHỐI LƯỢNG RIÊNG.TÍNH KHỐI LƯỢNG RIÊNG CỦA CÁC VẬT THEO KHỐI LƯỢNG RIÊ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371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.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Khối lượng riê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121932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76320" y="36504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52388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579132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76320" y="295596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228600" y="356544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508968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47984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1676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36576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21337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Vậy 0,9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ó khối lượng là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243828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Khối lượng chiếc cột sắ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280368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800 kg / 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x 0,9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= 702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1240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2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Bảng Khối lượng riêng của một số chấ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18080"/>
            <a:ext cx="40388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Khối lượng riêng của Đá là 2600 kg / 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có nghĩa là: 1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Đá có khối lượng là 260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46324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3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Tính khối lượng của một vật theo Khối lượng riê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5257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562284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600kg/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x 0,5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= 1300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943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6253200"/>
            <a:ext cx="625680" cy="376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46480" y="6248520"/>
            <a:ext cx="625320" cy="376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3160" y="6248520"/>
            <a:ext cx="625320" cy="376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6248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6248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07120" y="6186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0560" y="6110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40440" y="6248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533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II.T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ỌNG</a:t>
            </a: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 LƯỢNG RIÊ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36504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632480"/>
            <a:ext cx="4191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Áp dụng công thức: P = 10 x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60948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7621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9907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( 1 ) : trọng lượng riêng ( N/m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16002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( 3 ) : thể tích (m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295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( 2 ) : trọng lượng  ( 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  = 10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2209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III.XÁC ĐỊNH T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ỌNG</a:t>
            </a: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 LƯỢNG RIÊNG CỦA MỘT CHẤ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1981080"/>
            <a:ext cx="99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259092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2743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31240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IV VẬN DỤ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295596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3384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ãy tính khối lượng và trọng lượng của một chiếc dầm sắt có thể tích 40d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26088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413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3276720"/>
            <a:ext cx="0" cy="838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429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V = 40d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0,04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3733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D = 7800kg/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  =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3657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  =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40384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a có công thứ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4038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  = D x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434340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hay số: m = 7800 x 0,04 = 312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55616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49528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hay số: P = 10 x 320 = 3200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508968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Wingdings"/>
                <a:ea typeface="Wingdings"/>
              </a:rPr>
              <a:t>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5257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5562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ỗi nhóm hãy hòa 50g muối ăn vào 0,5 l nước rồi đo khối lượng riêng của nước muối đ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guyễn Mế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36F-5027-4AD2-ADD3-80EAA90BB2D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0/2009</a:t>
            </a:r>
          </a:p>
        </p:txBody>
      </p:sp>
    </p:spTree>
  </p:cSld>
  <p:transition>
    <p:wheel spokes="8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09:18:11Z</dcterms:created>
  <dc:creator>Root</dc:creator>
  <dc:description/>
  <dc:language>en-US</dc:language>
  <cp:lastModifiedBy>Root</cp:lastModifiedBy>
  <dcterms:modified xsi:type="dcterms:W3CDTF">2009-10-23T08:02:26Z</dcterms:modified>
  <cp:revision>25</cp:revision>
  <dc:subject/>
  <dc:title>Slide 1</dc:title>
</cp:coreProperties>
</file>